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C96D0880-9D1E-453F-AA26-3ADA824B015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E7F2CE0B-4688-4736-8A67-22ABAA514C3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0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load the Grading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23278" r="926" b="0"/>
          <a:stretch/>
        </p:blipFill>
        <p:spPr>
          <a:xfrm>
            <a:off x="457200" y="1625760"/>
            <a:ext cx="8153280" cy="27781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905280" y="4681440"/>
            <a:ext cx="478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you have finished grading the assignment, upload the filled-in grading checkli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, you can only upload a single fi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 flipV="1">
            <a:off x="5390640" y="3945960"/>
            <a:ext cx="610560" cy="826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 a Gra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0" t="19910" r="925" b="0"/>
          <a:stretch/>
        </p:blipFill>
        <p:spPr>
          <a:xfrm>
            <a:off x="76320" y="1568520"/>
            <a:ext cx="8153280" cy="3589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762440" y="4226040"/>
            <a:ext cx="438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gn a grade to the assignment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 - a resubmit is require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- the assignment is accep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7" name="Straight Arrow Connector 6"/>
          <p:cNvCxnSpPr>
            <a:stCxn id="126" idx="0"/>
          </p:cNvCxnSpPr>
          <p:nvPr/>
        </p:nvCxnSpPr>
        <p:spPr>
          <a:xfrm flipH="1" flipV="1">
            <a:off x="4876560" y="3701520"/>
            <a:ext cx="2077200" cy="524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28" name="TextBox 7"/>
          <p:cNvSpPr/>
          <p:nvPr/>
        </p:nvSpPr>
        <p:spPr>
          <a:xfrm>
            <a:off x="1295280" y="58644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send a short text message to the student using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iscuss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ea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9" name="Straight Arrow Connector 9"/>
          <p:cNvCxnSpPr>
            <a:stCxn id="128" idx="0"/>
          </p:cNvCxnSpPr>
          <p:nvPr/>
        </p:nvCxnSpPr>
        <p:spPr>
          <a:xfrm flipV="1">
            <a:off x="3733920" y="5114520"/>
            <a:ext cx="95760" cy="750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644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Checklists on Paper for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564920"/>
            <a:ext cx="32986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hecklists are on your student C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ading checklists provide 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sciplined way of checking student assign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cise form for delivering feedback to stud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hecklists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ilored by leve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artitioned by for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119560" y="1658880"/>
            <a:ext cx="3411720" cy="441180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 flipV="1">
            <a:off x="3152880" y="1903320"/>
            <a:ext cx="3168720" cy="3416400"/>
          </a:xfrm>
          <a:prstGeom prst="line">
            <a:avLst/>
          </a:prstGeom>
          <a:ln w="25560">
            <a:solidFill>
              <a:srgbClr val="87abb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3508200" y="4581000"/>
            <a:ext cx="1711440" cy="1111320"/>
          </a:xfrm>
          <a:prstGeom prst="line">
            <a:avLst/>
          </a:prstGeom>
          <a:ln w="25560">
            <a:solidFill>
              <a:srgbClr val="87abb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Checklists: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497640" y="1906560"/>
            <a:ext cx="2133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area for overall com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56480" y="4446720"/>
            <a:ext cx="2387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area for recording specific com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90440" y="2168640"/>
            <a:ext cx="2133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column for checking key areas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2443320" y="1536840"/>
            <a:ext cx="3744720" cy="4843440"/>
          </a:xfrm>
          <a:prstGeom prst="rect">
            <a:avLst/>
          </a:prstGeom>
          <a:ln w="0">
            <a:noFill/>
          </a:ln>
        </p:spPr>
      </p:pic>
      <p:sp>
        <p:nvSpPr>
          <p:cNvPr id="140" name="Line 8"/>
          <p:cNvSpPr/>
          <p:nvPr/>
        </p:nvSpPr>
        <p:spPr>
          <a:xfrm flipH="1" flipV="1">
            <a:off x="6038640" y="4379400"/>
            <a:ext cx="758520" cy="341640"/>
          </a:xfrm>
          <a:prstGeom prst="line">
            <a:avLst/>
          </a:prstGeom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4327560" y="4083120"/>
            <a:ext cx="1716120" cy="536400"/>
          </a:xfrm>
          <a:prstGeom prst="ellipse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>
            <a:off x="2193840" y="2409840"/>
            <a:ext cx="612720" cy="770040"/>
          </a:xfrm>
          <a:custGeom>
            <a:avLst/>
            <a:gdLst>
              <a:gd name="textAreaLeft" fmla="*/ 0 w 612720"/>
              <a:gd name="textAreaRight" fmla="*/ 613080 w 6127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87abb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433760" y="2381400"/>
            <a:ext cx="1648080" cy="468000"/>
          </a:xfrm>
          <a:prstGeom prst="ellipse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5911920" y="2181240"/>
            <a:ext cx="614160" cy="263520"/>
          </a:xfrm>
          <a:prstGeom prst="line">
            <a:avLst/>
          </a:prstGeom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ment evaluation criteria for PSP0 and PSP0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he proper forms are inclu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ata are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are neat and self-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all required artifacts are sub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getting student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process to guide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habit of tracking data while the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 complete, accurate, and consisten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925440" y="5173560"/>
            <a:ext cx="15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987720" y="2106720"/>
            <a:ext cx="11368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oblem did you have with PSP0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0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12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and PSP 0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39680" y="154296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tracking as they work (e.g. all entries rounded to nearest five or ten minute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 “phase” vs. “activity” (e.g.  compile phase vs compiling when fixing a test defect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hases aren’t in the right order (e.g. design to test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 “iterative development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luding wrong things as part of the assignment (e.g. % time distribution seems od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esn’t track interrupt time correct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ptions are not descriptive or describe the symptom not the root cau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ing “fix time”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ing of “fix reference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ect about 100 defect/K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ong fix time without injecting additional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onsistent between compile or test “phase” time and compile or test “fix”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978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and PSP 0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28520" y="15984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ment suggestion doesn’t show insight into the personal process (e.g. try har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 Summar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are inconsist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gram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gram counts lines with tabs or spaces as 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n’t follow their coding or counting standar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ing and coding standard repor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orts don’t force a logical LOC onto a physical 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0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basic 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minimal changes to the engineer’s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7360" y="901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rading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5084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high-quality data.  Poor data leads to poor lear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calcul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attention on new items.  Students generally will produce correct results after a single remin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assume there is a problem.  Start  with the thought that incorrect data indicates there may be misunderstanding by you or the stud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on SEI Learning Port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0" t="3560" r="44446" b="42505"/>
          <a:stretch/>
        </p:blipFill>
        <p:spPr>
          <a:xfrm>
            <a:off x="495360" y="1440000"/>
            <a:ext cx="4736880" cy="198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0" t="5641" r="27778" b="20891"/>
          <a:stretch/>
        </p:blipFill>
        <p:spPr>
          <a:xfrm>
            <a:off x="1154160" y="4038480"/>
            <a:ext cx="7275600" cy="2425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5486400" y="28195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link under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y List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bring up the course assignment li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05" name="Straight Arrow Connector 9"/>
          <p:cNvCxnSpPr>
            <a:stCxn id="104" idx="1"/>
          </p:cNvCxnSpPr>
          <p:nvPr/>
        </p:nvCxnSpPr>
        <p:spPr>
          <a:xfrm flipH="1" flipV="1">
            <a:off x="894600" y="3181320"/>
            <a:ext cx="4591800" cy="300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06" name="Straight Arrow Connector 16"/>
          <p:cNvCxnSpPr>
            <a:stCxn id="104" idx="2"/>
          </p:cNvCxnSpPr>
          <p:nvPr/>
        </p:nvCxnSpPr>
        <p:spPr>
          <a:xfrm flipH="1">
            <a:off x="4630680" y="4142880"/>
            <a:ext cx="2379960" cy="886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0" t="5641" r="27778" b="20891"/>
          <a:stretch/>
        </p:blipFill>
        <p:spPr>
          <a:xfrm>
            <a:off x="457200" y="168264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762120" y="511164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grade an assignment, click on the assignment to bring up the list of student submissions. In this example, let’s look at Program 1 Assignment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0" name="Straight Arrow Connector 6"/>
          <p:cNvCxnSpPr>
            <a:stCxn id="109" idx="0"/>
          </p:cNvCxnSpPr>
          <p:nvPr/>
        </p:nvCxnSpPr>
        <p:spPr>
          <a:xfrm flipV="1">
            <a:off x="4495680" y="3816000"/>
            <a:ext cx="1524960" cy="1296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the Stud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22737" r="925" b="0"/>
          <a:stretch/>
        </p:blipFill>
        <p:spPr>
          <a:xfrm>
            <a:off x="457200" y="1674720"/>
            <a:ext cx="8153280" cy="2957760"/>
          </a:xfrm>
          <a:prstGeom prst="rect">
            <a:avLst/>
          </a:prstGeom>
          <a:ln w="0">
            <a:noFill/>
          </a:ln>
        </p:spPr>
      </p:pic>
      <p:cxnSp>
        <p:nvCxnSpPr>
          <p:cNvPr id="113" name="Elbow Connector 16"/>
          <p:cNvCxnSpPr/>
          <p:nvPr/>
        </p:nvCxnSpPr>
        <p:spPr>
          <a:xfrm flipH="1" flipV="1" rot="5400000">
            <a:off x="677520" y="5102280"/>
            <a:ext cx="1608840" cy="375480"/>
          </a:xfrm>
          <a:prstGeom prst="bentConnector3">
            <a:avLst>
              <a:gd name="adj1" fmla="val 99597"/>
            </a:avLst>
          </a:prstGeom>
          <a:ln w="12600">
            <a:solidFill>
              <a:srgbClr val="0070c0"/>
            </a:solidFill>
            <a:miter/>
            <a:tailEnd len="lg" type="stealth" w="lg"/>
          </a:ln>
        </p:spPr>
      </p:cxnSp>
      <p:sp>
        <p:nvSpPr>
          <p:cNvPr id="114" name="TextBox 4"/>
          <p:cNvSpPr/>
          <p:nvPr/>
        </p:nvSpPr>
        <p:spPr>
          <a:xfrm>
            <a:off x="533520" y="518004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see only students with ungraded assignments, click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Users with ungraded submission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radio butt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a student name to view their assignment submiss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5" name="Elbow Connector 6"/>
          <p:cNvCxnSpPr/>
          <p:nvPr/>
        </p:nvCxnSpPr>
        <p:spPr>
          <a:xfrm flipH="1" flipV="1" rot="5400000">
            <a:off x="405360" y="4035600"/>
            <a:ext cx="1653480" cy="791280"/>
          </a:xfrm>
          <a:prstGeom prst="bentConnector3">
            <a:avLst>
              <a:gd name="adj1" fmla="val 98867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ownload and Gra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0" t="23640" r="0" b="0"/>
          <a:stretch/>
        </p:blipFill>
        <p:spPr>
          <a:xfrm>
            <a:off x="457200" y="1584360"/>
            <a:ext cx="8229600" cy="28018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33520" y="49784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wnload the student’s assignment zip file and use the appropriate grading checklist to record your grading com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, the grading checklists are downloaded from the course information pa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9" name="Straight Arrow Connector 5"/>
          <p:cNvCxnSpPr/>
          <p:nvPr/>
        </p:nvCxnSpPr>
        <p:spPr>
          <a:xfrm flipV="1">
            <a:off x="1498680" y="3784320"/>
            <a:ext cx="1256400" cy="1265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2Z</dcterms:modified>
  <cp:revision>216</cp:revision>
  <dc:subject/>
  <dc:title>No Slide Title</dc:title>
</cp:coreProperties>
</file>